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C330-F1CD-425D-BCBC-400F93ABB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o and 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nifest at higher levels of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cell can have mass; organism can have 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 meant to be exclus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nifest at higher levels of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cell can have mass; organism can have 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 meant to be exclus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force chlorine into the E slot, as it isn’t chlorine that is sen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force chlorine into the E slot, as it isn’t chlorine that is sen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ic description n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AF5-6E79-49E9-9721-0C70CD40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CFA-33B4-40AF-AF57-46016F05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900-5351-475A-8322-A8329537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035-E47F-4703-BD52-200CCC6B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482-F3F3-4EDE-BB70-E4FB40B8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39E9-B92A-4FAE-99BA-980D0899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A04-E98B-4596-92D1-07FE1556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F7D-0BAC-4D7B-89BE-9164A2C7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357-1ED9-4ACC-B64D-A6E610E7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C0E-B972-4B4E-BDB1-E0FF03D3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EE2-1A54-4A53-85F2-8AEAC8E3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F9D-4A86-44DD-903F-DA9878CE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89AC-210A-4E5F-BA7E-FF06457CE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bioontology.org/wiki/index.php/PATO:Pre_vs_Post_Coordinating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henotype annot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1337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wrence Berkeley Lab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CB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ormal treatment of EQ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must be clear about what we mean when we compose an E and a Q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therwise we will have incomplete query results and erroneous statistics in annot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meaning must be comput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rmally, an EQ description defin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"/>
          <p:cNvSpPr/>
          <p:nvPr/>
        </p:nvSpPr>
        <p:spPr>
          <a:xfrm>
            <a:off x="1038960" y="5181480"/>
            <a:ext cx="58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bearer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69120" y="739152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bearer entity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bears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6280" y="7086600"/>
            <a:ext cx="319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hich implicitly refers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5105520"/>
            <a:ext cx="4329360" cy="1606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3200" y="47242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4720" y="4724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a[1]/eya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4920" y="1905120"/>
            <a:ext cx="5803920" cy="1104840"/>
            <a:chOff x="304920" y="1905120"/>
            <a:chExt cx="5803920" cy="1104840"/>
          </a:xfrm>
        </p:grpSpPr>
        <p:grpSp>
          <p:nvGrpSpPr>
            <p:cNvPr id="105" name=""/>
            <p:cNvGrpSpPr/>
            <p:nvPr/>
          </p:nvGrpSpPr>
          <p:grpSpPr>
            <a:xfrm>
              <a:off x="304920" y="1905120"/>
              <a:ext cx="5803920" cy="1104840"/>
              <a:chOff x="304920" y="1905120"/>
              <a:chExt cx="5803920" cy="1104840"/>
            </a:xfrm>
          </p:grpSpPr>
          <p:pic>
            <p:nvPicPr>
              <p:cNvPr id="1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1905120"/>
                <a:ext cx="580392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692440"/>
                <a:ext cx="568944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"/>
            <p:cNvSpPr/>
            <p:nvPr/>
          </p:nvSpPr>
          <p:spPr>
            <a:xfrm>
              <a:off x="381240" y="2438280"/>
              <a:ext cx="2057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1240" y="2971800"/>
              <a:ext cx="2057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240" y="2666880"/>
              <a:ext cx="5331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76720" y="2666880"/>
              <a:ext cx="914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00200" y="2133720"/>
              <a:ext cx="914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4800600" y="3200400"/>
          <a:ext cx="3886200" cy="22096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ell death in 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ncreased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 disc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 disc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fract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Kinds of entities which can be bearers of biological qualit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ants (3D entiti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Cell parts (G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Cells (OBO Cell ontolog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Gross anatomical entities (CARO, FMA, flyAO, MA, zfishAO, …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Aggregates of organisms (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ccurrents (4D entiti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Biological processes (G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5105520"/>
            <a:ext cx="4329360" cy="1606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3200" y="47242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4720" y="4724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a[1]/eya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800600" y="3200400"/>
          <a:ext cx="3886200" cy="22096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ell death in 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ncreased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 disc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 disc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fract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876920" y="4191120"/>
            <a:ext cx="10666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472428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5257800"/>
            <a:ext cx="380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70520" y="586728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Gill Sans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191120"/>
            <a:ext cx="380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724280"/>
            <a:ext cx="6098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5257800"/>
            <a:ext cx="609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28400" y="586728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Gill Sans"/>
              </a:rPr>
              <a:t>Fly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50200" y="327672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ill Sans"/>
              </a:rPr>
              <a:t>P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our of PAT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ur from the top-dow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top level of PATO has been built according to formal ontological princi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s helps us define terms in a consistent and unambiguous w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top level can be hidden from end-users by means of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ontology view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aka slim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ill subject to ch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edback welcom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4267080" cy="6858000"/>
          </a:xfrm>
          <a:prstGeom prst="rect">
            <a:avLst/>
          </a:prstGeom>
          <a:solidFill>
            <a:srgbClr val="ffff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ATO: Top level divis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3640320" y="190512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6720" y="3429000"/>
            <a:ext cx="2672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which inh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n a continu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16240" y="3429000"/>
            <a:ext cx="3475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 of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which inh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n a process or spatio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2971800"/>
            <a:ext cx="3886200" cy="380880"/>
          </a:xfrm>
          <a:custGeom>
            <a:avLst/>
            <a:gdLst/>
            <a:ahLst/>
            <a:rect l="l" t="t" r="r" b="b"/>
            <a:pathLst>
              <a:path w="2448" h="240">
                <a:moveTo>
                  <a:pt x="0" y="240"/>
                </a:moveTo>
                <a:lnTo>
                  <a:pt x="0" y="0"/>
                </a:lnTo>
                <a:lnTo>
                  <a:pt x="2448" y="0"/>
                </a:lnTo>
                <a:lnTo>
                  <a:pt x="2448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2670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6324480"/>
            <a:ext cx="106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arrested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248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olor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6324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rem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632448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elayed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5562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orpholog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410080"/>
            <a:ext cx="160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6324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ens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952880"/>
            <a:ext cx="2971800" cy="60984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5943600"/>
            <a:ext cx="2971800" cy="45720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4800600"/>
            <a:ext cx="2971800" cy="60948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hap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iz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6324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tructur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5867280"/>
            <a:ext cx="1676520" cy="45720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943600"/>
            <a:ext cx="762120" cy="53352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04160" y="1819440"/>
            <a:ext cx="198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Lucida Grande"/>
              </a:rPr>
              <a:t>some nodes omitted for bre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5410080"/>
            <a:ext cx="1218960" cy="6098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5486400"/>
            <a:ext cx="1219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5486400"/>
            <a:ext cx="1219320" cy="6094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5562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4267080" cy="6858000"/>
          </a:xfrm>
          <a:prstGeom prst="rect">
            <a:avLst/>
          </a:prstGeom>
          <a:solidFill>
            <a:srgbClr val="ffff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ivisions by granularit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"/>
          <p:cNvSpPr/>
          <p:nvPr/>
        </p:nvSpPr>
        <p:spPr>
          <a:xfrm>
            <a:off x="2661840" y="190512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Monadic quality of a continu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760" y="3429000"/>
            <a:ext cx="3298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Physical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that exists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ction of continuants at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physical level of 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41440" y="3429000"/>
            <a:ext cx="362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Cellular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that exists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the cellular level of 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2971800"/>
            <a:ext cx="3886200" cy="380880"/>
          </a:xfrm>
          <a:custGeom>
            <a:avLst/>
            <a:gdLst/>
            <a:ahLst/>
            <a:rect l="l" t="t" r="r" b="b"/>
            <a:pathLst>
              <a:path w="2448" h="240">
                <a:moveTo>
                  <a:pt x="0" y="240"/>
                </a:moveTo>
                <a:lnTo>
                  <a:pt x="0" y="0"/>
                </a:lnTo>
                <a:lnTo>
                  <a:pt x="2448" y="0"/>
                </a:lnTo>
                <a:lnTo>
                  <a:pt x="2448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2670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25780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otenc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olor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6172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h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8148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nucl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52578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loi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5334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temperatur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5334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ass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971800"/>
            <a:ext cx="2590920" cy="533520"/>
          </a:xfrm>
          <a:custGeom>
            <a:avLst/>
            <a:gdLst/>
            <a:ahLst/>
            <a:rect l="l" t="t" r="r" b="b"/>
            <a:pathLst>
              <a:path w="1632" h="336">
                <a:moveTo>
                  <a:pt x="1632" y="336"/>
                </a:moveTo>
                <a:lnTo>
                  <a:pt x="163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2971800"/>
            <a:ext cx="2057400" cy="380880"/>
          </a:xfrm>
          <a:custGeom>
            <a:avLst/>
            <a:gdLst/>
            <a:ahLst/>
            <a:rect l="l" t="t" r="r" b="b"/>
            <a:pathLst>
              <a:path w="1296" h="240">
                <a:moveTo>
                  <a:pt x="0" y="240"/>
                </a:moveTo>
                <a:lnTo>
                  <a:pt x="0" y="0"/>
                </a:lnTo>
                <a:lnTo>
                  <a:pt x="129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91680" y="35053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480" y="34290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6019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ipl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6248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hapl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6477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aneupl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60199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ultipo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722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totipo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oligop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724280"/>
            <a:ext cx="2743200" cy="60984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4572000"/>
            <a:ext cx="2971800" cy="60948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52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7724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638680"/>
            <a:ext cx="76212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5638680"/>
            <a:ext cx="76176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943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g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6172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6400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yel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5562720"/>
            <a:ext cx="762120" cy="76176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888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anucl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bincul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24680" y="5791320"/>
            <a:ext cx="76212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5715000"/>
            <a:ext cx="53352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192" y="0"/>
                </a:moveTo>
                <a:lnTo>
                  <a:pt x="192" y="192"/>
                </a:lnTo>
                <a:lnTo>
                  <a:pt x="0" y="192"/>
                </a:lnTo>
                <a:lnTo>
                  <a:pt x="0" y="336"/>
                </a:lnTo>
                <a:lnTo>
                  <a:pt x="0" y="192"/>
                </a:lnTo>
                <a:lnTo>
                  <a:pt x="336" y="192"/>
                </a:lnTo>
                <a:lnTo>
                  <a:pt x="336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609588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627696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715000"/>
            <a:ext cx="53352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192" y="0"/>
                </a:moveTo>
                <a:lnTo>
                  <a:pt x="192" y="192"/>
                </a:lnTo>
                <a:lnTo>
                  <a:pt x="0" y="192"/>
                </a:lnTo>
                <a:lnTo>
                  <a:pt x="0" y="336"/>
                </a:lnTo>
                <a:lnTo>
                  <a:pt x="0" y="192"/>
                </a:lnTo>
                <a:lnTo>
                  <a:pt x="336" y="192"/>
                </a:lnTo>
                <a:lnTo>
                  <a:pt x="336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905120"/>
            <a:ext cx="4724640" cy="533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4267080" cy="6858000"/>
          </a:xfrm>
          <a:prstGeom prst="rect">
            <a:avLst/>
          </a:prstGeom>
          <a:solidFill>
            <a:srgbClr val="ffff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onadic vs relationa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"/>
          <p:cNvSpPr/>
          <p:nvPr/>
        </p:nvSpPr>
        <p:spPr>
          <a:xfrm>
            <a:off x="2691720" y="19051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 of a continu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3429000"/>
            <a:ext cx="356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Monadic quality of 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of a C that inheres solely in the bearer and does not require another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14440" y="3429000"/>
            <a:ext cx="415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Relational quality of 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of a C that requires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entity apart from its bearer to ex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2971800"/>
            <a:ext cx="3886200" cy="380880"/>
          </a:xfrm>
          <a:custGeom>
            <a:avLst/>
            <a:gdLst/>
            <a:ahLst/>
            <a:rect l="l" t="t" r="r" b="b"/>
            <a:pathLst>
              <a:path w="2448" h="240">
                <a:moveTo>
                  <a:pt x="0" y="240"/>
                </a:moveTo>
                <a:lnTo>
                  <a:pt x="0" y="0"/>
                </a:lnTo>
                <a:lnTo>
                  <a:pt x="2448" y="0"/>
                </a:lnTo>
                <a:lnTo>
                  <a:pt x="2448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2670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52578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ispla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(with)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533412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hysical 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0120" y="525780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onnected-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(to)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52578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(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5334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ellular 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41008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orpholog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5880" y="2971800"/>
            <a:ext cx="2590920" cy="533520"/>
          </a:xfrm>
          <a:custGeom>
            <a:avLst/>
            <a:gdLst/>
            <a:ahLst/>
            <a:rect l="l" t="t" r="r" b="b"/>
            <a:pathLst>
              <a:path w="1632" h="336">
                <a:moveTo>
                  <a:pt x="1632" y="336"/>
                </a:moveTo>
                <a:lnTo>
                  <a:pt x="163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2971800"/>
            <a:ext cx="2057400" cy="380880"/>
          </a:xfrm>
          <a:custGeom>
            <a:avLst/>
            <a:gdLst/>
            <a:ahLst/>
            <a:rect l="l" t="t" r="r" b="b"/>
            <a:pathLst>
              <a:path w="1296" h="240">
                <a:moveTo>
                  <a:pt x="0" y="240"/>
                </a:moveTo>
                <a:lnTo>
                  <a:pt x="0" y="0"/>
                </a:lnTo>
                <a:lnTo>
                  <a:pt x="129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91680" y="35053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480" y="34290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724280"/>
            <a:ext cx="2743200" cy="60984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4572000"/>
            <a:ext cx="2971800" cy="60948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52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7724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hap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iz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6324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tructur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5867280"/>
            <a:ext cx="1676520" cy="45720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 relational qualit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nsitiv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rect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towar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ome entity 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ill Sans"/>
              </a:rPr>
              <a:t>Sensitivit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an </a:t>
            </a: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ey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o </a:t>
            </a: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red ligh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quality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he </a:t>
            </a: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respect to (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) </a:t>
            </a: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red ligh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-syntax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= eye Q= sensitivity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2= red_ligh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 absenc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notation patterns for absence, counts are currently under discus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permatocyte devoid of asters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= CL:spermatocy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heres in the spermatocy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= PATO:lacks_pa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/relation of missing some part or par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2= GO-CC:as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 is with respect to the type “aster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inciples of Compositional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ur of PA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e vs post composi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Quantitative phenotyp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e- vs post- compos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do we build the phenotype description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 the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uring annotation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nciling pre and post composition: An analysis of the plant_trait ontolo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hen do we build the phenotype description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arly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-composed phenotype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P:0000017 “big ears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O:0000227 “root length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O:0000029 “chlorine sensitivity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at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-composed phenotype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= MA:ear Q= PATO:bi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= PO:root Q= PATO:lengt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= organism Q= PATO:sensitivity E2= CHEBI:chlori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s this comparable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"/>
          <p:cNvSpPr/>
          <p:nvPr/>
        </p:nvSpPr>
        <p:spPr>
          <a:xfrm>
            <a:off x="787680" y="198108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P:0000285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“abnormal cardiac valve morph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560" y="3124080"/>
            <a:ext cx="42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P:0000287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“heart valve hypoplas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819520" y="2438280"/>
            <a:ext cx="304560" cy="60984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3800" y="5562720"/>
            <a:ext cx="49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= MA:heart_valve Q=PATO:hypoplast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24640" y="510552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141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struc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21560" y="6135840"/>
            <a:ext cx="25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645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hypoplastic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7086240" y="5486400"/>
            <a:ext cx="304920" cy="53352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94000" y="426708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051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morph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477120" y="4572000"/>
            <a:ext cx="304560" cy="53352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828800" y="3962520"/>
            <a:ext cx="685800" cy="1295280"/>
          </a:xfrm>
          <a:prstGeom prst="line">
            <a:avLst/>
          </a:prstGeom>
          <a:ln w="76320">
            <a:solidFill>
              <a:srgbClr val="00808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9680" y="4191120"/>
            <a:ext cx="44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Grande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Yes: if term is decomposab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"/>
          <p:cNvSpPr/>
          <p:nvPr/>
        </p:nvSpPr>
        <p:spPr>
          <a:xfrm>
            <a:off x="787680" y="198108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P:0000285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“abnormal cardiac valve morph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7560" y="3124080"/>
            <a:ext cx="42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P:0000287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“heart valve hypoplas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819520" y="2438280"/>
            <a:ext cx="304560" cy="60984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3800" y="5562720"/>
            <a:ext cx="49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= MA:heart_valve Q=PATO:hypoplast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4640" y="510552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141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struc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21560" y="6135840"/>
            <a:ext cx="25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645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hypoplastic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7086240" y="5486400"/>
            <a:ext cx="304920" cy="53352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94000" y="426708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051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morph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6477120" y="4572000"/>
            <a:ext cx="304560" cy="53352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828800" y="3962520"/>
            <a:ext cx="685800" cy="129528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87960" y="4191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Grande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-209880" y="3505320"/>
            <a:ext cx="70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hypoplastic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heart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aring phenotyp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 want to compare and query bo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withi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acros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gross anatomical phenotypes to be compared across species, descriptions must b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compos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compos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o anatomical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ical terms must be compar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mology lin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O: Common Anatomy Referenc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ase study: Defining plant traits with PAT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 Plant Trait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-composed phenotype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alagous to OBO mammalian_phenotyp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ask: Define these terms with PA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good test of PA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monstration of compositional approac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ows meaningful comparison across plant spec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lot study before applying to metazoa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"/>
          <p:cNvSpPr/>
          <p:nvPr/>
        </p:nvSpPr>
        <p:spPr>
          <a:xfrm>
            <a:off x="216720" y="6172200"/>
            <a:ext cx="8364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Optima"/>
                <a:hlinkClick r:id="rId1"/>
              </a:rPr>
              <a:t>http://www.bioontology.org/wiki/index.php/PATO:Pre_vs_Post_Coordin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reation of genus-differentia defini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rst pass: Obo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pass: manual edi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tologies us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lant anatomical entities (PO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amene environment (GEO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mical entities of biological interest (CHEBI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sic phenotype term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oot length” (TO:00000227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= PO:root Q= PATO:leng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rmally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"/>
          <p:cNvSpPr/>
          <p:nvPr/>
        </p:nvSpPr>
        <p:spPr>
          <a:xfrm>
            <a:off x="829080" y="3733920"/>
            <a:ext cx="49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343400" y="4724280"/>
            <a:ext cx="450864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al qualities involving types of chemica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lorine sensitivity” [TO:0000029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rected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towar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 additional entity ty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Q= PATO:sensitivity E2= CHEBI:chlor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"/>
          <p:cNvSpPr/>
          <p:nvPr/>
        </p:nvSpPr>
        <p:spPr>
          <a:xfrm>
            <a:off x="829080" y="4267080"/>
            <a:ext cx="72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is directed 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organis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al qualities involving the environmen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rought sensitivity” [TO:0000029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rect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towar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n additional entity 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= PATO:sensitivity E2= EO:drough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"/>
          <p:cNvSpPr/>
          <p:nvPr/>
        </p:nvSpPr>
        <p:spPr>
          <a:xfrm>
            <a:off x="731880" y="3733920"/>
            <a:ext cx="68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 directed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organis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5400" y="5257800"/>
            <a:ext cx="81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BO needs a good environment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henotype annotation: why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shed light o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relationship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between genes, environment and phenoty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compar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genes and phenotypes across organis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improve human health and wellbe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lex phenotyp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insura boro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"Abortion of microspore development at trinucleate stag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"/>
          <p:cNvSpPr/>
          <p:nvPr/>
        </p:nvSpPr>
        <p:spPr>
          <a:xfrm>
            <a:off x="794880" y="3733920"/>
            <a:ext cx="49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arrested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microspore develo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during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trinucleate stag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sults of plant_trait analysi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52/784 terms provided with genus-differentia definitions so fa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elped find inconsistencies and problems in the ontolo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term suggestions for PA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portio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pproach should work for animal phenotype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cterial phenotyp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formed similar analysis on bacterial phenotype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d by Garrity &amp; Hozze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ults (morphological only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6 new terms added to PA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ugose, rhizoidal, lobate, filamentous, 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do: chemical utilization pheno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quired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 for aggregates of organis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ssay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ies provide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qualita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partitions on the kinds of entities we find in natu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may also want to record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quantita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inform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from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measurement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qual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measurement is not the pheno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enotypes exist independently of our measurements of the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easurement schem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measurement record consists 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quality being measur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the length of a particular mouse tai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unit 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rom PATO U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magnitu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oating point numb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ror measure [optional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ample of PATO U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ni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ase un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ength uni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ngstro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et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ss uni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Dalt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stance uni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rived un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centration uni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981080"/>
            <a:ext cx="411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rp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ysical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3048120"/>
            <a:ext cx="2971800" cy="30456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3962520"/>
            <a:ext cx="2743200" cy="7596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henotype exchange forma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notypes and pheno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-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-XM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neral purpos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WL (using canonical EQ encoding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so has Obo equival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annotation fi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orks with pre-coordinated terms on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-Phenotyp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database for phenotype associ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ilt on OBD framewor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uned for inference and reason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raph traversal built in from the sta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notations on data from OMIM, ZFIN and FlyB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urrently too small a dataset to do analysi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t PATO &amp; Phenote used across multiple organisms and proj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s, BIRN, OMIM,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llect annotation data from multiple sources in one repository (OBD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th pre + post compos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monstrated improved analysis of annotation data using PA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ifficult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types can be comple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scriptions are often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mposi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compass relationships between different kinds of entities, at different levels of granular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 ways of describing the same th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scriptions must be rigorous and unambiguou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sures meaningful analyses and comparisons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betwee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rganis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ilamentous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thin filamentous extensions at its ed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leomorphic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a quality inhering in a cell by virtue of it ability to take on two or more different shapes during its life cycl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ulvinat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shaped like a cushion or has a marked convex cushion-like form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umbonat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a knob or knoblike protuberance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ugos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many wrinkles or creases on the surfa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glistening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emitting or reflecting lots of ligh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dull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emitting or reflecting little or no ligh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viscid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covered with a sticky or clammy coating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mucoid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consistency of mucu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piral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plane curve traced by a point circling about the center but at increasing distances from the cent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hizoidal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root like extensions radiating from its cent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piny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spines, thorns or similar stiff projections on its surfa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arty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a hard rough surface; not smooth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urled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parallel chains in undulate fashion on the bord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ragil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easily damaged or disrupted; brittl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butyraceous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resembling butter in appearance and consistenc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undulat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a wavy, shallow ed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unctiform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small and resembling a poi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lobat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a morphological quality in which the bearer has deeply undulated edges forming lob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eros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an irregularly toothed ed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aised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is a thick colony that appear above the medium surface with terraced edg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onvex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a shape that obtains by virtue of having inward facing edges; having a surface or boundary that curves or bulges outward, as the exterior of a sphe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mylose to amylopectin ratio”TO:000037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"/>
          <p:cNvSpPr/>
          <p:nvPr/>
        </p:nvSpPr>
        <p:spPr>
          <a:xfrm>
            <a:off x="733320" y="3733920"/>
            <a:ext cx="78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compositional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 directed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amy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relative_to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amylopec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organis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218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itionality is essential for describing phenotyp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ositionality is a principle of good ontology desig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ka building blocks, cross-products, normalised/modular desig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eate complex descriptions (definitions) from simpler on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scriptions can be compos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at any ti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y construction time (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-compositio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 time (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-compositio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772400" y="1295280"/>
            <a:ext cx="1143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 example of compositionalit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asma membrane of spermatocy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ill Sans"/>
              </a:rPr>
              <a:t>Plasma membra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GO CC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Spermatocy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OBO Cell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rmal means of composi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us-different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"/>
          <p:cNvSpPr/>
          <p:nvPr/>
        </p:nvSpPr>
        <p:spPr>
          <a:xfrm>
            <a:off x="368280" y="5486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plasma membrane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sperm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60199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54120" y="64008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GO-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64008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OBO-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51400" y="64008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6019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05740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96520" y="46944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5410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86728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24240" y="46944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Differe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2590920"/>
            <a:ext cx="28954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2590920"/>
            <a:ext cx="228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itionality and ontology tool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mposition supported by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-Edi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oss-product plug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tégé-OW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WOOP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 oth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971800"/>
            <a:ext cx="3124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dvantage: Automatic DAG calcul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368280" y="5486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plasma membrane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sperm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92840" y="3124080"/>
            <a:ext cx="58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membrane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germ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438280" y="3962160"/>
            <a:ext cx="0" cy="1143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248520" y="3962160"/>
            <a:ext cx="0" cy="1143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297180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5334120"/>
            <a:ext cx="3124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412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895480"/>
            <a:ext cx="76201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181480"/>
            <a:ext cx="76197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495680" y="3962160"/>
            <a:ext cx="0" cy="1143000"/>
          </a:xfrm>
          <a:prstGeom prst="line">
            <a:avLst/>
          </a:prstGeom>
          <a:ln w="1522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building blocks of phenotype descriptions: EQ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tities and qualities (EQ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Bearer) </a:t>
            </a: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: </a:t>
            </a:r>
            <a:r>
              <a:rPr b="0" lang="en-US" sz="2000" spc="-1" strike="noStrike">
                <a:solidFill>
                  <a:srgbClr val="800000"/>
                </a:solidFill>
                <a:latin typeface="Gill Sans"/>
              </a:rPr>
              <a:t>compound eye, spermatocyte, blood, wing growth, scale morphogenes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ill Sans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aka property, attribut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kind of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ependent continua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fined in PA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: </a:t>
            </a:r>
            <a:r>
              <a:rPr b="0" lang="en-US" sz="2000" spc="-1" strike="noStrike">
                <a:solidFill>
                  <a:srgbClr val="333399"/>
                </a:solidFill>
                <a:latin typeface="Gill Sans"/>
              </a:rPr>
              <a:t>green, hot, squamous, rugose, edematous, light-sensitivity, luminescent, ectopic, arrested, decompos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dc:language>en-US</dc:language>
  <cp:lastModifiedBy>Chris Mungall</cp:lastModifiedBy>
  <dcterms:modified xsi:type="dcterms:W3CDTF">2006-12-02T16:55:05Z</dcterms:modified>
  <cp:revision>471</cp:revision>
  <dc:subject/>
  <dc:title>Ontologies for biological annotation</dc:title>
</cp:coreProperties>
</file>